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DB51-1458-4063-BA44-154AFDC3E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763A-071B-4A96-9CE7-ED20CBC0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C500-82A0-4FA0-9B9D-B3572606A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B303-E728-494F-82D1-370FD23A8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3488-9461-4D84-8B39-AF3C07B6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D73D-063C-47B8-B754-6D1F20FE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E4DA-A843-46E3-AD35-EC1195D1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64EC-DC5A-4D9A-BD47-492FEA66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26D5-594F-4192-85A9-87E1E585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2912-C598-4AC3-A3ED-3C6D9833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49E3-1E82-4327-9CDF-FA3377B2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C6B0-6E96-4317-A440-E2EC43DC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7874-74A2-4350-8DCA-BFC07E2AB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.C. Calculatorul SR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627280" y="2421000"/>
            <a:ext cx="361944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Organigrama societăț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42800" y="1614600"/>
            <a:ext cx="8208360" cy="4462560"/>
            <a:chOff x="442800" y="1614600"/>
            <a:chExt cx="8208360" cy="4462560"/>
          </a:xfrm>
        </p:grpSpPr>
        <p:cxnSp>
          <p:nvCxnSpPr>
            <p:cNvPr id="45" name="_s3085"/>
            <p:cNvCxnSpPr>
              <a:stCxn id="46" idx="0"/>
              <a:endCxn id="47" idx="2"/>
            </p:cNvCxnSpPr>
            <p:nvPr/>
          </p:nvCxnSpPr>
          <p:spPr>
            <a:xfrm flipV="1" rot="16200000">
              <a:off x="5536800" y="24084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3084"/>
            <p:cNvCxnSpPr>
              <a:stCxn id="49" idx="0"/>
              <a:endCxn id="47" idx="2"/>
            </p:cNvCxnSpPr>
            <p:nvPr/>
          </p:nvCxnSpPr>
          <p:spPr>
            <a:xfrm flipV="1">
              <a:off x="4547160" y="33987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3083"/>
            <p:cNvCxnSpPr>
              <a:stCxn id="51" idx="0"/>
              <a:endCxn id="47" idx="2"/>
            </p:cNvCxnSpPr>
            <p:nvPr/>
          </p:nvCxnSpPr>
          <p:spPr>
            <a:xfrm flipH="1" flipV="1" rot="5400000">
              <a:off x="2664000" y="24087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7" name="_s3079"/>
            <p:cNvSpPr/>
            <p:nvPr/>
          </p:nvSpPr>
          <p:spPr>
            <a:xfrm>
              <a:off x="3315600" y="16146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anager unitat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3080"/>
            <p:cNvSpPr/>
            <p:nvPr/>
          </p:nvSpPr>
          <p:spPr>
            <a:xfrm>
              <a:off x="442800" y="42922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Director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arketing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081"/>
            <p:cNvSpPr/>
            <p:nvPr/>
          </p:nvSpPr>
          <p:spPr>
            <a:xfrm>
              <a:off x="3315600" y="42922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Director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esurse umane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3082"/>
            <p:cNvSpPr/>
            <p:nvPr/>
          </p:nvSpPr>
          <p:spPr>
            <a:xfrm>
              <a:off x="6188760" y="42922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Director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economic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ini calculato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erta lunii April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Imprimante – 20% reduc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Monitoare – 15% reduc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Mouse – 10% reduc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Multifuncționale – 10% reduc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Scanner – 25% reduc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Adres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Loc. Cluj Napo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Str. Avram Iancu Nr. 2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od. 4074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jud. Clu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Tel. 02641234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emai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etter"/>
          <p:cNvSpPr/>
          <p:nvPr/>
        </p:nvSpPr>
        <p:spPr>
          <a:xfrm>
            <a:off x="2340000" y="5157720"/>
            <a:ext cx="1800360" cy="792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9:41:46Z</dcterms:created>
  <dc:creator>AS</dc:creator>
  <dc:description/>
  <dc:language>en-US</dc:language>
  <cp:lastModifiedBy>AS</cp:lastModifiedBy>
  <dcterms:modified xsi:type="dcterms:W3CDTF">2010-01-08T20:00:00Z</dcterms:modified>
  <cp:revision>4</cp:revision>
  <dc:subject/>
  <dc:title>S.C. Calculatorul SRL</dc:title>
</cp:coreProperties>
</file>